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4BBC-A4E8-434A-974F-FB8DA6AD79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D495-F3F3-4440-973A-397A5ABD1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89522-ED9E-4CF9-948B-C11B2A26A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B416-AB10-4366-A4A2-DC1D6224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AEB4B-3247-4AAC-AEB6-3FB42DB9F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3F5CD-A1C3-4DF4-9A39-05357D7F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989AC-368A-4229-9903-2F109705E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7FCB6-D844-419E-8CF7-F274CED0D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D8AFB-82FD-434E-9C95-9B361F105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42B03-53B6-43C5-B99C-2FC491BC6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3BBEB-DE7F-4743-A79A-BEABF666B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26663-C911-4C74-B80E-658861CE4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DFEE8-F649-4AC4-AA32-398E2CB7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B965-CF55-4F9A-A2BB-44033EEE5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9D841-1337-4AC6-A740-EEFA71993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11011-7A6B-4075-85CB-F99A72C0B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76013-25E6-495D-A5E7-AAADEA4E1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93C8D-2882-4586-9285-0BD14741A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85AF8-747D-4E73-8B8D-D1A4E87DA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A0254-F770-4CF9-808C-80C13A8E1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20788-9573-4F63-9BDD-7B72C1823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4FACC-2D72-49CD-8570-93B451A48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38B72-2552-402A-8DF9-68F909598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EE076-1AEF-4BDF-B0AB-0BAA7C866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B2201-0CBD-4A18-B2A4-F2691A3C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40F96-F63A-4005-9E48-1F77980E3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31B1E-50BE-4D03-B523-72A7B4C5F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B450D-5ABC-493B-9D53-AD0715FD0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3917B-475C-4819-9C61-9B8E874F8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DB9AD-8B88-4359-84E8-7666D79A0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D7B2D5-B843-4207-9B32-564B2D3D46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8DB9F-3B26-48B9-B3FD-90EBDC6F38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8EEE8-8D90-4666-8296-A2E3C27C4E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060DD0-FF48-4426-B3B0-8BF72AF8A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DE193-298A-4C29-A520-E2F0ABF58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6D54-2B1F-4668-B523-AD624E5CA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32C9D-801C-49D1-866C-E276956A7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E5F65-CE0B-4C58-98D4-4ABAFF7C4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06940-C6E9-4753-94C5-DB72D3476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A96EA-C980-40E1-87DF-FAD292A84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BF4C2-FCDF-43DA-B1AE-C38B36AD0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4816A-0A18-4088-A558-8600A9C14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E0FBA-43F9-4359-A805-ED78263C7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3976F-AD89-44B7-BE3D-651A21AB74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FFE226-E379-4BCD-AD80-0D9C42A36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CC42D-6C13-4CFB-9A79-8085EE27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3857-0EF0-4E2A-9E2F-AA6F38DA3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C70F-A37E-43DB-9CCB-D7CD42C8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DAD2B-FE5B-4FE8-888F-31F5DA53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3B24-A7E8-47C2-BF4A-9F91BE253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36B9-6B31-4123-836D-F5B32CAEC057}"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064E-0CDA-4100-8764-1FE5FA16A628}"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F164-B418-4177-8871-B4E1999DE14A}"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503D-B67E-49FB-9020-281F8497B34F}"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hristen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envied and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1-06T17:20:57Z</dcterms:modified>
  <cp:revision>19</cp:revision>
  <dc:subject/>
  <dc:title>Nubia and Egypt</dc:title>
</cp:coreProperties>
</file>